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A83E-CE6B-4B12-8BCE-5AF64EDCA7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14CE-FF1E-4FDC-8797-E3095139A5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A535-AA2C-40C4-9CDE-F05AB016BF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5081-9BF1-4A50-A914-775A14FFFB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22A6-153C-4219-A6AB-DD519FB51D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87FA-3CA9-41A7-BEAC-509BC37B4D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6F9C-BE2F-44AE-8D52-FA1DC32B62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3E5-ECA9-4D41-9D9D-E1A8AF1384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B5A7-51B7-4C3C-868C-FD7033517E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C040-2B7F-4CBB-88FB-AFB5BDD621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FC92-889B-42F3-9853-C8F21AF3C2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EADE-8CA4-49D2-867A-463D98E1B8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2EFA-D0CA-4413-A112-1960907BE0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44D-D548-47E7-8D54-E971F53C58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55D-8A48-4F84-A981-86AE2466DC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DB26-C557-4CBB-AFD1-DA1ABC4362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6299-F7B6-4B04-801F-13DB8F2A34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7ADB-3799-4439-9C42-F94D8C0561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63E4-43D8-4A25-812C-4D96121C24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1172-17F4-438F-A138-56A04A1720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440-009C-42E8-B2BE-C39B75AC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548-64E3-484F-B733-F3F408FE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0E3-A437-40CE-9958-A5C8434F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4C9-12BE-4B57-AE58-B7481FD3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833-3163-4ED6-9AE1-B4293890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A72-68E4-46B0-BE95-32EAB705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B85-BB36-44EE-B1B8-83C97C80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7D4-2FF6-43EC-A946-1395B73F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245-D8FE-42F3-9F8A-508C330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76D-9121-4A42-98B8-5E8279F7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9A3-49FE-45F1-ACBE-5E8E801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D92-5BB8-47C8-B0C8-157E4E32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5C14-01BF-4651-80CA-DCA3EAF70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68360" y="6024600"/>
          <a:ext cx="6335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024600"/>
                    <a:ext cx="633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vk.cz/rp" TargetMode="External"/><Relationship Id="rId3" Type="http://schemas.openxmlformats.org/officeDocument/2006/relationships/hyperlink" Target="http://www.mvk.cz/rp" TargetMode="External"/><Relationship Id="rId4" Type="http://schemas.openxmlformats.org/officeDocument/2006/relationships/hyperlink" Target="http://www.mvk.cz/rp" TargetMode="External"/><Relationship Id="rId5" Type="http://schemas.openxmlformats.org/officeDocument/2006/relationships/hyperlink" Target="http://www.mvk.cz/rp" TargetMode="External"/><Relationship Id="rId6" Type="http://schemas.openxmlformats.org/officeDocument/2006/relationships/hyperlink" Target="http://www.mvk.cz/rp" TargetMode="External"/><Relationship Id="rId7" Type="http://schemas.openxmlformats.org/officeDocument/2006/relationships/hyperlink" Target="http://www.mvk.cz/rp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40280" y="326880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ečná konference - dube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250920" y="5929200"/>
          <a:ext cx="705780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929200"/>
                    <a:ext cx="7057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7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4"/>
          <a:stretch/>
        </p:blipFill>
        <p:spPr>
          <a:xfrm>
            <a:off x="142920" y="3357720"/>
            <a:ext cx="1357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2009\Projekt Rovné příležitosti\září 09 PC kurz\P1010289x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2009\Projekt Rovné příležitosti\září 09 PC kurz\P1010264x.jpg"/>
          <p:cNvPicPr/>
          <p:nvPr/>
        </p:nvPicPr>
        <p:blipFill>
          <a:blip r:embed="rId3"/>
          <a:stretch/>
        </p:blipFill>
        <p:spPr>
          <a:xfrm>
            <a:off x="442908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A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 konference pro zaměstn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dotazníkové šetření pro zaměstna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x konference rodinných a mateřsk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92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ference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2009\Projekt Rovné příležitosti\09_12_02Konference AERV\fotbal a konference 170x.jpg"/>
          <p:cNvPicPr/>
          <p:nvPr/>
        </p:nvPicPr>
        <p:blipFill>
          <a:blip r:embed="rId3"/>
          <a:stretch/>
        </p:blipFill>
        <p:spPr>
          <a:xfrm>
            <a:off x="179280" y="141300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2009\Projekt Rovné příležitosti\09_12_02Konference AERV\fotbal a konference 182x.jpg"/>
          <p:cNvPicPr/>
          <p:nvPr/>
        </p:nvPicPr>
        <p:blipFill>
          <a:blip r:embed="rId4"/>
          <a:stretch/>
        </p:blipFill>
        <p:spPr>
          <a:xfrm>
            <a:off x="4356000" y="2781360"/>
            <a:ext cx="4189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7"/>
          <p:cNvSpPr/>
          <p:nvPr/>
        </p:nvSpPr>
        <p:spPr>
          <a:xfrm>
            <a:off x="61128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e mateřský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2010\PROJEKT ŽENY A MUŽI V KOMUNITNÍ KNIHOVNĚ\10_10_21KonferenceRP_DK\P1000423.JPG"/>
          <p:cNvPicPr/>
          <p:nvPr/>
        </p:nvPicPr>
        <p:blipFill>
          <a:blip r:embed="rId3"/>
          <a:stretch/>
        </p:blipFill>
        <p:spPr>
          <a:xfrm>
            <a:off x="3276720" y="191628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9828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96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lematika slaďování profesního a rodinného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ivota v povědomí veřejnosti a místní komunit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SP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ní přednáška „GENDER -  co to je za slovo a jaký má význam?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 kamp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– dobrovolníci a dobrovol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elné schůzky – příprava happeningu, výstavy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aní člán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ppening „Jsme si rovni“ na Dolní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a fotografií „Velké prádlo aneb bourání stereotyp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2010\PROJEKT ŽENY A MUŽI V KOMUNITNÍ KNIHOVNĚ\10_05_13Happening Jsme si rovni\michal fotky\1\DSC_0756x.jpg"/>
          <p:cNvPicPr/>
          <p:nvPr/>
        </p:nvPicPr>
        <p:blipFill>
          <a:blip r:embed="rId3"/>
          <a:stretch/>
        </p:blipFill>
        <p:spPr>
          <a:xfrm>
            <a:off x="3851280" y="2637000"/>
            <a:ext cx="511344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2010\PROJEKT ŽENY A MUŽI V KOMUNITNÍ KNIHOVNĚ\Týmkampaně\30.3.2010\P1020921x.jpg"/>
          <p:cNvPicPr/>
          <p:nvPr/>
        </p:nvPicPr>
        <p:blipFill>
          <a:blip r:embed="rId4"/>
          <a:stretch/>
        </p:blipFill>
        <p:spPr>
          <a:xfrm>
            <a:off x="250920" y="155736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2010\PROJEKT ŽENY A MUŽI V KOMUNITNÍ KNIHOVNĚ\10_05_13Happening Jsme si rovni\michal fotky\1\DSC_0795x.jpg"/>
          <p:cNvPicPr/>
          <p:nvPr/>
        </p:nvPicPr>
        <p:blipFill>
          <a:blip r:embed="rId3"/>
          <a:stretch/>
        </p:blipFill>
        <p:spPr>
          <a:xfrm>
            <a:off x="4284720" y="3044880"/>
            <a:ext cx="4341600" cy="290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2010\PROJEKT ŽENY A MUŽI V KOMUNITNÍ KNIHOVNĚ\10_05_13Happening Jsme si rovni\michal fotky\1\DSC_0774x.jpg"/>
          <p:cNvPicPr/>
          <p:nvPr/>
        </p:nvPicPr>
        <p:blipFill>
          <a:blip r:embed="rId4"/>
          <a:stretch/>
        </p:blipFill>
        <p:spPr>
          <a:xfrm>
            <a:off x="324000" y="1484280"/>
            <a:ext cx="3887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0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F:\2010\PROJEKT ŽENY A MUŽI V KOMUNITNÍ KNIHOVNĚ\Výstava_Aktivní otcovství\P1030803.JPG"/>
          <p:cNvPicPr/>
          <p:nvPr/>
        </p:nvPicPr>
        <p:blipFill>
          <a:blip r:embed="rId3"/>
          <a:stretch/>
        </p:blipFill>
        <p:spPr>
          <a:xfrm>
            <a:off x="179280" y="148428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392436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Aktivní otcovstv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:\2011\ROVNÉ PŘÍLEŽITOSTI_PROJEKTU ESF\Výstava Velké prádlo\IMAG0051x.jpg"/>
          <p:cNvPicPr/>
          <p:nvPr/>
        </p:nvPicPr>
        <p:blipFill>
          <a:blip r:embed="rId4"/>
          <a:stretch/>
        </p:blipFill>
        <p:spPr>
          <a:xfrm>
            <a:off x="4284720" y="3141720"/>
            <a:ext cx="4286160" cy="256680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8"/>
          <p:cNvSpPr/>
          <p:nvPr/>
        </p:nvSpPr>
        <p:spPr>
          <a:xfrm>
            <a:off x="147636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Velké prá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4920" y="18900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ánky projektu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vk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é zprávy, čl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ční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Katka\Documents\KATKA\KATKA\Ženy a muži v komunitní knihovně - projekt RP říjen 08\Publicita\Loga\symbol_rovnost_sbaleno\jpeg\logo_plnobarevne.jpg"/>
          <p:cNvPicPr/>
          <p:nvPr/>
        </p:nvPicPr>
        <p:blipFill>
          <a:blip r:embed="rId8"/>
          <a:stretch/>
        </p:blipFill>
        <p:spPr>
          <a:xfrm>
            <a:off x="3000240" y="3714840"/>
            <a:ext cx="3453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0880" y="494352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arykova veřejná knihovna Vse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7360" y="540216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v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vk@vs.inex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11280" y="5402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 412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 449 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00" y="98280"/>
            <a:ext cx="70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investič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9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ý náze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Rovné příležitosti žen a mužů v komunitní knihovně Vsetín - partnerství a zdravá komunita - celoživotní vzdělávání – prospe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oče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038.345,92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rmonogram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venec 2009 - červ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38960" y="1285920"/>
            <a:ext cx="90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pt-horní pruh logo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4840" y="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tační program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ční progra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ské zdroje a zaměstna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P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ní o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ální integrace a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ast podp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né příležitosti žen a mužů na trhu práce a sladění pracovního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79280" y="1413000"/>
            <a:ext cx="849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857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cílem projektu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za pomoci vytvoření partnerství mezi vybranými institucemi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místě ovlivnit vnímání problematiky rovných příležitostí žen a mužů v okrese Vsetí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35720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800" y="18900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ě nezaměstnané ženy - muž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odobné situaci (na MD, 5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stnavatel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768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ner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Vset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dinné a mateřské centrum Sluníčko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pro komunitní práci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entura pro ekonomický rozvoj Vsetín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á spolupráce s Úřadem práce Vsetí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53360" y="128592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osob ohrožených na trhu práce (včetně doprovodných opat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gi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azování problematiky slaďování profesního a rodinného života v povědomí veřejnosti a míst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1428480"/>
            <a:ext cx="87505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dělávání osob ohrožených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ové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atické kurzy – Ekonomické minimum, Technika administrativy, Právní minimum, Ekologie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ostní výcvik a psychosociální motivač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rovodná opatření – hlídání dětí a příspěvek na do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mi dobrá spolupráce s ÚP Vsetín i R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čn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jení, výměna zkušeností (mladé maminky, ženy ve věku 5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ěhlo 70 kurzů, ve kterých bylo proškoleno přes 60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07360" y="1285920"/>
            <a:ext cx="836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2009\Projekt Rovné příležitosti\Jazykové kurzy\P1010358x.jpg"/>
          <p:cNvPicPr/>
          <p:nvPr/>
        </p:nvPicPr>
        <p:blipFill>
          <a:blip r:embed="rId2"/>
          <a:stretch/>
        </p:blipFill>
        <p:spPr>
          <a:xfrm>
            <a:off x="142920" y="1571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2009\Projekt Rovné příležitosti\Jazykové kurzy\P1010355x.jpg"/>
          <p:cNvPicPr/>
          <p:nvPr/>
        </p:nvPicPr>
        <p:blipFill>
          <a:blip r:embed="rId3"/>
          <a:stretch/>
        </p:blipFill>
        <p:spPr>
          <a:xfrm>
            <a:off x="4429080" y="2357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40:35Z</dcterms:created>
  <dc:creator>uživatel</dc:creator>
  <dc:description/>
  <dc:language>en-US</dc:language>
  <cp:lastModifiedBy>Haisová</cp:lastModifiedBy>
  <dcterms:modified xsi:type="dcterms:W3CDTF">2011-07-25T07:05:13Z</dcterms:modified>
  <cp:revision>128</cp:revision>
  <dc:subject/>
  <dc:title>Nadpis prezentace</dc:title>
</cp:coreProperties>
</file>